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D9C-FE1E-4EB7-9E94-CA0168AB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318-1E23-44C8-B559-02C6A14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7C6-827F-4370-83F0-BCEF1ACE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276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80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276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880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837-C234-49B3-AB31-20D68B1C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2CEB-67D9-429E-8886-60ED78B4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FB81-7BB6-455B-9DED-B73E0F3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C904-EBFE-42DD-BDAB-DE6134EB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057-AE9A-4EA9-B26D-F82FBFC0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9F56-BC0D-46DC-A589-19BDD1E8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EA4-9A24-43D7-B600-8A07F82E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F4F-C6BD-4A6A-89DF-3F1EAEA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EE7-78AC-404A-A9AB-5A052694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1916-3B56-47B9-9865-A6338D67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24D-0EC6-4753-BAAF-A0238D5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6E3-4330-478E-AA8F-ED23027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E94F-8EA3-457D-91DC-3367BC5B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276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80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28276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880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F112-16A8-4961-9C00-BF79D817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4B7-820E-4861-8248-7749A8C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904-67A3-4118-BE3B-35212E56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F44-924A-451A-B256-42F3CF5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19A-25E7-4857-8709-859B441C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A68-3856-4FFF-A332-6E5B43F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20A-F7B1-4A77-B4B9-3A7AEF4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3DA-985C-423F-B0F8-DB9969B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:\Cartoons\Women1\GC000652.WMF"/>
          <p:cNvPicPr/>
          <p:nvPr/>
        </p:nvPicPr>
        <p:blipFill>
          <a:blip r:embed="rId2"/>
          <a:stretch/>
        </p:blipFill>
        <p:spPr>
          <a:xfrm>
            <a:off x="4191120" y="3965400"/>
            <a:ext cx="4952880" cy="289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421-5D40-4D92-B3F2-255BFA46D9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C0A-5B45-4A30-B3CA-1598BA454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Cartoons\Women1\GC000648.WMF"/>
          <p:cNvPicPr/>
          <p:nvPr/>
        </p:nvPicPr>
        <p:blipFill>
          <a:blip r:embed="rId2"/>
          <a:stretch/>
        </p:blipFill>
        <p:spPr>
          <a:xfrm>
            <a:off x="0" y="4313160"/>
            <a:ext cx="5562720" cy="25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7CF-6D0D-43A3-906F-A9AAAA974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satholyfamily.wikispaces.com/hom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oltoolsforschools.wikispaces.com/" TargetMode="External"/><Relationship Id="rId2" Type="http://schemas.openxmlformats.org/officeDocument/2006/relationships/hyperlink" Target="http://gettingtrickywithwikis.wikispaces.com/" TargetMode="External"/><Relationship Id="rId3" Type="http://schemas.openxmlformats.org/officeDocument/2006/relationships/hyperlink" Target="http://perkupprojects.wikispace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nimoto.com/business/education" TargetMode="External"/><Relationship Id="rId2" Type="http://schemas.openxmlformats.org/officeDocument/2006/relationships/hyperlink" Target="http://blabberize.com/" TargetMode="External"/><Relationship Id="rId3" Type="http://schemas.openxmlformats.org/officeDocument/2006/relationships/hyperlink" Target="http://www.gimp.org/" TargetMode="External"/><Relationship Id="rId4" Type="http://schemas.openxmlformats.org/officeDocument/2006/relationships/hyperlink" Target="http://www.loonapix.com/" TargetMode="External"/><Relationship Id="rId5" Type="http://schemas.openxmlformats.org/officeDocument/2006/relationships/hyperlink" Target="http://www.magtoo.com/" TargetMode="External"/><Relationship Id="rId6" Type="http://schemas.openxmlformats.org/officeDocument/2006/relationships/hyperlink" Target="http://www.makebeliefscomix.com/" TargetMode="External"/><Relationship Id="rId7" Type="http://schemas.openxmlformats.org/officeDocument/2006/relationships/hyperlink" Target="http://www.wordle.net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milebox.com/" TargetMode="External"/><Relationship Id="rId2" Type="http://schemas.openxmlformats.org/officeDocument/2006/relationships/hyperlink" Target="http://www.fotoflexer.com/" TargetMode="External"/><Relationship Id="rId3" Type="http://schemas.openxmlformats.org/officeDocument/2006/relationships/hyperlink" Target="http://shapecollage.com/" TargetMode="External"/><Relationship Id="rId4" Type="http://schemas.openxmlformats.org/officeDocument/2006/relationships/hyperlink" Target="http://easybib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iki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eb 2.0 Tools, Moviemaker and More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3657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ss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ki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762120" y="1828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ikisatholyfamily.wikispaces.com/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2.0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120" y="18284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1"/>
              </a:rPr>
              <a:t>http://cooltoolsforschools.wikispace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2"/>
              </a:rPr>
              <a:t>http://gettingtrickywithwikis.wikispace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http://perkupprojects.wikispace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animoto.com/business/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blabberize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www.gimp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www.loonapix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agtoo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www.makebeliefscomix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wordl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160" y="533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smilebox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fotoflexer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shapecollag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easybib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tinyurl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torybird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netruemedia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maker Tutori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movies.atomiclearning.com/k12/moviemaker2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maker How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icrosoft.com/windowsxp/using/moviemaker/default.m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8:52:44Z</dcterms:created>
  <dc:creator>rparmigiani</dc:creator>
  <dc:description/>
  <dc:language>en-US</dc:language>
  <cp:lastModifiedBy>rparmigiani</cp:lastModifiedBy>
  <cp:lastPrinted>2010-09-08T02:48:30Z</cp:lastPrinted>
  <dcterms:modified xsi:type="dcterms:W3CDTF">2011-09-13T19:34:33Z</dcterms:modified>
  <cp:revision>13</cp:revision>
  <dc:subject/>
  <dc:title>Wiki’s Web 2.0 Tools, Moviemaker and More….</dc:title>
</cp:coreProperties>
</file>